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9CD-5816-4F8D-816B-9F6FDE4A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6A2D-5C78-4481-9844-81F32769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BBF-2F90-492B-AF06-CC98AF70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8F5-19F1-4E43-AEBC-6A6B2F66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DE0-6EBC-44CA-A951-8875394F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FA0-3E9D-468E-9BF0-2A7E564D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FC0-51A0-42DF-A77F-8A654FFD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5CE-1B8F-4A8D-BEF8-168A2947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825-FEF1-4F2F-B99D-C947A858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D32-9866-4B3B-9106-67EF9443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B20F-0064-481E-8CFC-194929CE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8B2E-BAE7-45B8-86BB-E3DA013C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204A-2148-471C-90FC-DF311D13D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rwin.ca/gridlock/" TargetMode="External"/><Relationship Id="rId3" Type="http://schemas.openxmlformats.org/officeDocument/2006/relationships/hyperlink" Target="http://www.corwin.ca/gridlock/" TargetMode="External"/><Relationship Id="rId4" Type="http://schemas.openxmlformats.org/officeDocument/2006/relationships/hyperlink" Target="http://www.corwin.ca/gridlock/" TargetMode="External"/><Relationship Id="rId5" Type="http://schemas.openxmlformats.org/officeDocument/2006/relationships/hyperlink" Target="http://www.corwin.ca/gridlock/" TargetMode="External"/><Relationship Id="rId6" Type="http://schemas.openxmlformats.org/officeDocument/2006/relationships/hyperlink" Target="http://www.corwin.ca/gridlock/" TargetMode="External"/><Relationship Id="rId7" Type="http://schemas.openxmlformats.org/officeDocument/2006/relationships/hyperlink" Target="http://www.corwin.ca/gridlock/" TargetMode="External"/><Relationship Id="rId8" Type="http://schemas.openxmlformats.org/officeDocument/2006/relationships/hyperlink" Target="http://nlvm.usu.edu/en/nav/frames_asid_165_g_1_t_3.html?open=instructions&amp;from=category_g_1_t_3.html" TargetMode="External"/><Relationship Id="rId9" Type="http://schemas.openxmlformats.org/officeDocument/2006/relationships/hyperlink" Target="http://nlvm.usu.edu/en/nav/frames_asid_165_g_1_t_3.html?open=instructions&amp;from=category_g_1_t_3.html" TargetMode="External"/><Relationship Id="rId10" Type="http://schemas.openxmlformats.org/officeDocument/2006/relationships/hyperlink" Target="http://nlvm.usu.edu/en/nav/frames_asid_165_g_1_t_3.html?open=instructions&amp;from=category_g_1_t_3.html" TargetMode="External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uice ITC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Juice ITC"/>
              </a:rPr>
              <a:t>Math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Juice ITC"/>
              </a:rPr>
              <a:t>Teacher: Mr. Ch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uice ITC"/>
              </a:rPr>
              <a:t>What is Congru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The relationship between two geometric shapes having the same size and shape (congruent shapes) (this is smart tal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My definition: A shape that is the same size a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uice ITC"/>
              </a:rPr>
              <a:t>What does it mean for polygons to be congru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Polygons are congruent if they are equal in all respec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Same number of s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All corresponding sides are the same leng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All corresponding interior angles are the sam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My definition: Basically the polygon need to be the same all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uice ITC"/>
              </a:rPr>
              <a:t>Five shortcuts for determining triangles are congru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Juice ITC"/>
              </a:rPr>
              <a:t>SSS Postulate   If 3 sides of one triangle are congruent to 3 sides of another triangle, then the triangles are congru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Juice ITC"/>
              </a:rPr>
              <a:t>My definition:  if all 3 sides on both triangles are the same then the triangles is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Juice ITC"/>
              </a:rPr>
              <a:t>SAS Postulate   If 2 sides and the included angle of a triangle are congruent to 2 sides and the included angle of another triangle, then the triangles are congru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Juice ITC"/>
              </a:rPr>
              <a:t>My definition: if 2 sides and the angle are the same in both triangles then they ar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Juice ITC"/>
              </a:rPr>
              <a:t>ASA Postulate   If 2 angles and the included side of a triangle are congruent to two angles and the included side of another triangle, then the triangles are congru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Juice ITC"/>
              </a:rPr>
              <a:t>My definition: if 2 angles and the side are the same in both triangles then they ar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Juice ITC"/>
              </a:rPr>
              <a:t>AAS Theorem   In a triangle, if 2 angles and a side opposite one of them are congruent to the corresponding parts of another triangle, then the triangles are congru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Juice ITC"/>
              </a:rPr>
              <a:t>My definition: idk how to explain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uice ITC"/>
              </a:rPr>
              <a:t>(SSS) Side Side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SSS is when two triangles have the same length for all their side the triangles are  congru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uice ITC"/>
              </a:rPr>
              <a:t>Test (300p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1+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Draw a triangle with sss theor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2+2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What is congr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What does it mean for polygons to be congru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Bonus: What is my name? (600p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uice ITC"/>
              </a:rPr>
              <a:t>Home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Draw a circle and color i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Go home and play on the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E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Draw a triangle too and color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uice ITC"/>
              </a:rPr>
              <a:t>Math 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Juice ITC"/>
                <a:hlinkClick r:id="rId2"/>
              </a:rPr>
              <a:t>sum shape game thought I i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Juice ITC"/>
                <a:hlinkClick r:id="rId3"/>
              </a:rPr>
              <a:t>kind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Juice ITC"/>
                <a:hlinkClick r:id="rId4"/>
              </a:rPr>
              <a:t> fun in a way i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Juice ITC"/>
                <a:hlinkClick r:id="rId5"/>
              </a:rPr>
              <a:t>kind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Juice ITC"/>
                <a:hlinkClick r:id="rId6"/>
              </a:rPr>
              <a:t> fun in a way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Juice ITC"/>
                <a:hlinkClick r:id="rId7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Juice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Juice ITC"/>
                <a:hlinkClick r:id="rId8"/>
              </a:rPr>
              <a:t>Sum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Juice ITC"/>
                <a:hlinkClick r:id="rId9"/>
              </a:rPr>
              <a:t>oth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Juice ITC"/>
                <a:hlinkClick r:id="rId10"/>
              </a:rPr>
              <a:t>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6:15:18Z</dcterms:created>
  <dc:creator>301894</dc:creator>
  <dc:description/>
  <dc:language>en-US</dc:language>
  <cp:lastModifiedBy>301894</cp:lastModifiedBy>
  <dcterms:modified xsi:type="dcterms:W3CDTF">2008-05-02T16:42:17Z</dcterms:modified>
  <cp:revision>5</cp:revision>
  <dc:subject/>
  <dc:title>Real talk dis iz da funniest math class</dc:title>
</cp:coreProperties>
</file>